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explode.wav" ContentType="audio/x-wav"/>
  <Override PartName="/ppt/media/camera.wav" ContentType="audio/x-wav"/>
  <Override PartName="/ppt/media/chimes.wav" ContentType="audio/x-wav"/>
  <Override PartName="/ppt/media/glass.wav" ContentType="audio/x-wav"/>
  <Override PartName="/ppt/media/type.wav" ContentType="audio/x-wav"/>
  <Override PartName="/ppt/media/whoosh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FD0-F8F6-48A0-8320-2477AD6F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1DC-A699-4FB5-9AFA-622F7F6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199-0BE6-485C-8C8A-A2D83C44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26F-D37C-4756-9931-991F698B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E30-AE20-4366-8B73-1F6606D7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FD0-FEB1-416D-AC66-6B73EC3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97EA-E534-4115-A6FF-CCD1B9C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091B-3CD9-4234-8E06-718EBC6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4742-2ADB-4182-B7EC-E9EA3F3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673B-1128-45CC-A0F3-DD15EC6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7C71-D4BB-418F-9FCA-06D5FA4F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8AD-005C-41AE-84D2-224CB9FF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3D34-B919-4DDB-B87C-ECEAB9D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A448-9D72-4239-9C14-5179F4D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9DA5-EA4A-443B-8ADE-4BBC8E0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4234-3126-4714-ACA3-5237C0F4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A001-0656-4856-B32D-4F17B9FD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A3E-B6D1-48C0-B97C-3C9C4FD6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5E0-B059-4F94-9E87-920084DF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2E7-57E1-47EC-B9BB-57FF09B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8AB-673B-4094-9DE9-B83ED08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A97-E8E8-489D-A2DB-15D5AAF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F83-DA2C-4AA7-AF8B-8543C8B9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C7F-98A2-47AD-B8BC-458350ED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EC5-EE53-4036-AB23-C586BEE5D0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1FB3-57B2-4931-8D44-933AB67574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glas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glass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glass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glass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133720" y="1676520"/>
            <a:ext cx="5638680" cy="3352680"/>
          </a:xfrm>
          <a:prstGeom prst="irregularSeal2">
            <a:avLst/>
          </a:prstGeom>
          <a:gradFill rotWithShape="0">
            <a:gsLst>
              <a:gs pos="0">
                <a:srgbClr val="00007a"/>
              </a:gs>
              <a:gs pos="100000">
                <a:srgbClr val="7474b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2895480" y="2819520"/>
            <a:ext cx="337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Kristen ITC"/>
              </a:rPr>
              <a:t>COLOR TOO CONTRAST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057400" y="4038480"/>
            <a:ext cx="685800" cy="1447920"/>
          </a:xfrm>
          <a:custGeom>
            <a:avLst/>
            <a:gdLst>
              <a:gd name="textAreaLeft" fmla="*/ 91800 w 685800"/>
              <a:gd name="textAreaRight" fmla="*/ 594000 w 6858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676520" y="6105600"/>
            <a:ext cx="2743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huheiuwhuiewhuihewuihied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05" name="AutoShape 7"/>
          <p:cNvSpPr/>
          <p:nvPr/>
        </p:nvSpPr>
        <p:spPr>
          <a:xfrm flipH="1">
            <a:off x="6400080" y="4038480"/>
            <a:ext cx="609480" cy="1447920"/>
          </a:xfrm>
          <a:custGeom>
            <a:avLst/>
            <a:gdLst>
              <a:gd name="textAreaLeft" fmla="*/ 81360 w 609480"/>
              <a:gd name="textAreaRight" fmla="*/ 528120 w 60948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AutoShape 9"/>
          <p:cNvSpPr/>
          <p:nvPr/>
        </p:nvSpPr>
        <p:spPr>
          <a:xfrm flipV="1">
            <a:off x="4724280" y="456840"/>
            <a:ext cx="685800" cy="1447920"/>
          </a:xfrm>
          <a:custGeom>
            <a:avLst/>
            <a:gdLst>
              <a:gd name="textAreaLeft" fmla="*/ 91800 w 685800"/>
              <a:gd name="textAreaRight" fmla="*/ 594000 w 6858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AutoShape 10"/>
          <p:cNvSpPr/>
          <p:nvPr/>
        </p:nvSpPr>
        <p:spPr>
          <a:xfrm flipH="1" flipV="1">
            <a:off x="3199680" y="914400"/>
            <a:ext cx="762120" cy="13716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1143000" y="914400"/>
            <a:ext cx="18381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09" name="WordArt 12"/>
          <p:cNvSpPr txBox="1"/>
          <p:nvPr/>
        </p:nvSpPr>
        <p:spPr>
          <a:xfrm>
            <a:off x="5638680" y="30492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hhbwiwdiwdin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5638680" y="91440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7534440" y="37339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njefhdewhiew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2" name="WordArt 15"/>
          <p:cNvSpPr txBox="1"/>
          <p:nvPr/>
        </p:nvSpPr>
        <p:spPr>
          <a:xfrm>
            <a:off x="5410080" y="5486400"/>
            <a:ext cx="2057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opjifejioewjf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3" name="WordArt 17"/>
          <p:cNvSpPr txBox="1"/>
          <p:nvPr/>
        </p:nvSpPr>
        <p:spPr>
          <a:xfrm>
            <a:off x="5410080" y="601992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mimpi ngeri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4" name="WordArt 18"/>
          <p:cNvSpPr txBox="1"/>
          <p:nvPr/>
        </p:nvSpPr>
        <p:spPr>
          <a:xfrm>
            <a:off x="7534440" y="32767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5" name="AutoShape 20"/>
          <p:cNvSpPr/>
          <p:nvPr/>
        </p:nvSpPr>
        <p:spPr>
          <a:xfrm flipH="1">
            <a:off x="608760" y="2362320"/>
            <a:ext cx="1676520" cy="609480"/>
          </a:xfrm>
          <a:custGeom>
            <a:avLst/>
            <a:gdLst>
              <a:gd name="textAreaLeft" fmla="*/ 293040 w 1676520"/>
              <a:gd name="textAreaRight" fmla="*/ 1215360 w 1676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980891"/>
                <a:lnTo>
                  <a:pt x="21287" y="15450"/>
                </a:lnTo>
                <a:lnTo>
                  <a:pt x="17280" y="21600"/>
                </a:lnTo>
                <a:lnTo>
                  <a:pt x="12647" y="15450"/>
                </a:lnTo>
                <a:lnTo>
                  <a:pt x="14807" y="15450"/>
                </a:lnTo>
                <a:arcTo wR="7560" hR="21600" stAng="-2419109" swAng="-2623457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7010280" y="2590920"/>
            <a:ext cx="1752840" cy="533160"/>
          </a:xfrm>
          <a:custGeom>
            <a:avLst/>
            <a:gdLst>
              <a:gd name="textAreaLeft" fmla="*/ 306720 w 1752840"/>
              <a:gd name="textAreaRight" fmla="*/ 1270800 w 17528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WordArt 23"/>
          <p:cNvSpPr txBox="1"/>
          <p:nvPr/>
        </p:nvSpPr>
        <p:spPr>
          <a:xfrm>
            <a:off x="1143000" y="3049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8" name="WordArt 24"/>
          <p:cNvSpPr txBox="1"/>
          <p:nvPr/>
        </p:nvSpPr>
        <p:spPr>
          <a:xfrm>
            <a:off x="0" y="3733920"/>
            <a:ext cx="18381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jiojfioejioefj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19" name="WordArt 27"/>
          <p:cNvSpPr txBox="1"/>
          <p:nvPr/>
        </p:nvSpPr>
        <p:spPr>
          <a:xfrm>
            <a:off x="1600200" y="5486400"/>
            <a:ext cx="28954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  <p:sp>
        <p:nvSpPr>
          <p:cNvPr id="120" name="WordArt 28"/>
          <p:cNvSpPr txBox="1"/>
          <p:nvPr/>
        </p:nvSpPr>
        <p:spPr>
          <a:xfrm>
            <a:off x="0" y="31240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OkayD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OkayD"/>
              <a:ea typeface="OkayD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2438280" y="2590920"/>
            <a:ext cx="419112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eaeaea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ord formation not suitabl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eaeaea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380880" y="457200"/>
            <a:ext cx="2743200" cy="1523880"/>
          </a:xfrm>
          <a:prstGeom prst="cloudCallout">
            <a:avLst>
              <a:gd name="adj1" fmla="val 45949"/>
              <a:gd name="adj2" fmla="val 7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990720" y="762120"/>
            <a:ext cx="16761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Change to next pag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3352680" y="304920"/>
            <a:ext cx="2743200" cy="1523880"/>
          </a:xfrm>
          <a:prstGeom prst="cloudCallout">
            <a:avLst>
              <a:gd name="adj1" fmla="val -2833"/>
              <a:gd name="adj2" fmla="val 90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3733920" y="685800"/>
            <a:ext cx="198108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With slow col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6400800" y="609480"/>
            <a:ext cx="2514600" cy="1524240"/>
          </a:xfrm>
          <a:prstGeom prst="cloudCallout">
            <a:avLst>
              <a:gd name="adj1" fmla="val -66097"/>
              <a:gd name="adj2" fmla="val 71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6934320" y="762120"/>
            <a:ext cx="16761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Made me heada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304920" y="4800600"/>
            <a:ext cx="2743200" cy="1523880"/>
          </a:xfrm>
          <a:prstGeom prst="cloudCallout">
            <a:avLst>
              <a:gd name="adj1" fmla="val 35245"/>
              <a:gd name="adj2" fmla="val -91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838080" y="51814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3200400" y="4800600"/>
            <a:ext cx="2743200" cy="1523880"/>
          </a:xfrm>
          <a:prstGeom prst="cloudCallout">
            <a:avLst>
              <a:gd name="adj1" fmla="val -6481"/>
              <a:gd name="adj2" fmla="val -9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3581280" y="5105520"/>
            <a:ext cx="2210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2" name="AutoShape 19"/>
          <p:cNvSpPr/>
          <p:nvPr/>
        </p:nvSpPr>
        <p:spPr>
          <a:xfrm>
            <a:off x="6095880" y="4724280"/>
            <a:ext cx="2743200" cy="1524240"/>
          </a:xfrm>
          <a:prstGeom prst="cloudCallout">
            <a:avLst>
              <a:gd name="adj1" fmla="val -41782"/>
              <a:gd name="adj2" fmla="val -87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6400800" y="5029200"/>
            <a:ext cx="2209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-76320" y="-514440"/>
            <a:ext cx="9498240" cy="7524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5935320" y="65530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LLAS March 16, 2013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718920" y="773280"/>
            <a:ext cx="79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This is not slide, we called it picture </a:t>
            </a:r>
            <a:r>
              <a:rPr b="0" lang="en-US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18:35:07Z</dcterms:created>
  <dc:creator>smka</dc:creator>
  <dc:description/>
  <dc:language>en-US</dc:language>
  <cp:lastModifiedBy>se7en</cp:lastModifiedBy>
  <dcterms:modified xsi:type="dcterms:W3CDTF">2013-03-30T05:34:23Z</dcterms:modified>
  <cp:revision>62</cp:revision>
  <dc:subject/>
  <dc:title>PowerPoint Presentation</dc:title>
</cp:coreProperties>
</file>